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31.jpeg" ContentType="image/jpeg"/>
  <Override PartName="/ppt/media/image33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9D4-E794-49C5-BC8D-23E267DB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8D6-A670-43DE-939B-0E576CBC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A8F-8F04-4D8E-98E2-54015B2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F21-06DE-41A6-B91F-9F21569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28D-1629-4786-8B35-D16BE941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B59-D0C4-460C-88E5-21E9224A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81F1-ADF9-4E0B-AA64-EB50ADF4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FD90-37FA-42B7-A08C-B0AA3BA8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C3D1-E80C-40D3-9A04-39302CDE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E9E1-CE87-4A14-A310-AD4FE4C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080A-6932-48E9-8867-014C0A8A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B773-2568-443A-B5A4-6FA5FB30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D26-0B00-42DB-A5D6-BB4C861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C1B-C424-4182-AA8F-2D90DF9C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2C98-E393-43E6-BCF5-4069006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BF15-2943-449B-8F84-4FDB85F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CB38-869A-4FC5-88B5-B484A04C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556-5553-4527-81A0-8309871D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A920-96E4-4A2F-8D7E-C24CB83C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5A19-6747-4CFD-82D8-BE6D86A0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1D76-D98D-4AC7-BB55-35344F1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865C-B38B-4E62-B254-2C0C18C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45D2-63B7-4D34-A060-422EFD1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BA0D-8A47-420E-B09C-8B441B4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F18-331E-4B24-97B4-E78FC910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9162-EB07-4C55-8DE6-302B515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362A-0802-4172-A3FE-760C0977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97AA-1CA8-476B-BF56-C915514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928D-1BB0-4028-9204-F56CFC5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91AB-B7F6-4EE2-8AF4-218FDE20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6A65-A9D6-4742-BE05-1E2F19BC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E04F-8493-49A3-8315-AD12D228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272E-A5F3-4A5A-8E22-860D37FD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D321-A5A3-4378-9A68-62764CC7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7A93-2308-4098-89F1-D128D297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658-383A-4C0A-AA67-AFFFCA0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F6A0-67EF-4EFB-A88A-11BC3A2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5D03-5127-4525-A19D-0D860C45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7670-AF23-448F-A3BE-02F21538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4129-3CB6-4639-8786-0997237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21A6-128E-4EAB-93D6-697F49E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73AA-415F-4784-8707-DC745E3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17F3-168B-403F-AD0B-6227953E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B2EB-F607-49E9-BC13-726270FD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768E-A983-483C-9963-93334B09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9C5-29FB-4491-BACE-A9A0011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C5C-B16B-4EB0-95AE-4B68D76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DD2-6620-4A58-9453-B7BAF60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50C-897D-45EB-8FE7-7D303DB3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DB1-718E-4E1B-97B6-195983C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F41C-1B70-4063-8ACB-5F1A93BA26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993-F62D-4061-B5E2-36490C642E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ED8-8B11-4A04-A594-1DE11DE2272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5AEE-9A67-4EBA-8E0F-09F1E94B2E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://online.science.psu.edu/bisc002_activeup002/node/5152&amp;ei=OKGjVfudBsn1Uq6RgoAB&amp;bvm=bv.97653015,d.bGg&amp;psig=AFQjCNFNsJD98DqHqH9an12iIf-1n2IV2w&amp;ust=143687318952635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en.wikibooks.org%2Fwiki%2FStructural_Biochemistry%2FThe_Stepwise_Process_of_How_DNA_is_Cloned_and_Inserted_into_the_Vector&amp;ei=Jp6jVY2QKcXXUZ_IhcAG&amp;bvm=bv.97653015,d.bGg&amp;psig=AFQjCNEe0yFZcddYTiXfGnrjbAW7bZoSuA&amp;ust=143687260686842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logyexams4u.com%2F2013%2F11%2Fgenomic-library-definition-and-steps-in.html&amp;ei=16KjVcaTBoSAU6fDpzg&amp;bvm=bv.97653015,d.bGg&amp;psig=AFQjCNE9uBVTu_ClfVSw1qCiyQkUdIa7AA&amp;ust=143687379104318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en.wikibooks.org%2Fwiki%2FStructural_Biochemistry%2FDNA_recombinant_techniques%2FGenomic_Library&amp;ei=I6SjVc3mCcPmUouxmFA&amp;bvm=bv.97653015,d.bGg&amp;psig=AFQjCNFfeAmzmo7iK_Z19ne346jx2_p90w&amp;ust=1436873784550325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c/Cloning_diagram_english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%20http:/images.search.yahoo.com/search/images/view?back=http%3A%2F%2Fimages.search.yahoo.com%2Fsearch%2Fimages%3F_adv_prop%3Dimage%26va%3Dcloning%2Banimals%26sz%3Dall%26ei%3DUTF-8%26ni%3D20%26fr%3Dyfp-t-471%26b%3D41&amp;w=228&amp;h=349&amp;imgurl=img.dailymail.co.uk%2Fi%2Fpix%2F2007%2F07_01%2FdollyDM1007_228x349.jpg&amp;rurl=http%3A%2F%2Fwww.dailymail.co.uk%2Fpages%2Flive%2Farticles%2Ftechnology%2Ftechnology.html%3Fin_article_id%3D467510%26amp%3Bin_page_id%3D1766%26amp%3Bito%3D1490&amp;size=54.4kB&amp;name=dollyDM1007_228x349.jpg&amp;p=cloning+animals&amp;type=jpeg&amp;no=51&amp;tt=343&amp;oid=735c76f90090e79e&amp;ei=UTF-8&amp;src=p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rs/url?sa=i&amp;rct=j&amp;q=&amp;esrc=s&amp;source=images&amp;cd=&amp;cad=rja&amp;uact=8&amp;ved=0ahUKEwj80tHkwbjVAhXEB8AKHQJ-DdQQjRwIBw&amp;url=http%3A%2F%2Fwww.theecologist.org%2FNews%2Fnews_round_up%2F555115%2Fcloned_animals_a_threat_to_genetic_diversity.html&amp;psig=AFQjCNGqGSSnk43Kpx6bwrhPXRxU3iN37g&amp;ust=1501762048696105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google.rs/url?sa=i&amp;rct=j&amp;q=&amp;esrc=s&amp;source=images&amp;cd=&amp;ved=0ahUKEwiltcv9wrjVAhXsLsAKHRhlBbgQjRwIBw&amp;url=http%3A%2F%2Fholmanranch.com%2Fthe-fight-goes-on-between-equine-purists-and-advocates-of-cloning%2F&amp;psig=AFQjCNGqGSSnk43Kpx6bwrhPXRxU3iN37g&amp;ust=1501762048696105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ritannica.com%2Fscience%2Fgel-electrophoresis&amp;ei=U6WjVfTFM4veU9DKiZgP&amp;bvm=bv.97653015,d.bGg&amp;psig=AFQjCNGU9NwMUbJTsz5iFqCNwV7Q5NsEbA&amp;ust=143687443720366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-rad.com%2Fen-us%2Fapplications-technologies%2Fprotein-electrophoresis-methods&amp;ei=g6ajVe6RNIr5Uoz1gqgF&amp;bvm=bv.97653015,d.bGg&amp;psig=AFQjCNGU9NwMUbJTsz5iFqCNwV7Q5NsEbA&amp;ust=1436874437203667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chem.arizona.edu%2Fclasses%2Fbioc471%2Fpages%2FLecture2%2FLecture2.html&amp;ei=g6-fVaCINYa9UcWzirAK&amp;bvm=bv.97653015,d.bGQ&amp;psig=AFQjCNE5gfZaGdyGSv538IjoP5NeqQL2CA&amp;ust=1436614867741306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www.google.com%2Fpatents%2FWO2001007651A2%3Fcl%3Den&amp;ei=ErGfVd3UFYe5UafQkJAL&amp;bvm=bv.97653015,d.bGQ&amp;psig=AFQjCNFRMjNRiGJ9e9wcjXkVHrQ8TNto-Q&amp;ust=1436614841639242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gallery4share.com%2Fd%2Fdna-ligase.html&amp;ei=PbKfVYDFKsO4Uae0oZAL&amp;bvm=bv.97653015,d.bGQ&amp;psig=AFQjCNEFy6DigSVSdxkwex07DSUmAsMyhg&amp;ust=143661561011242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ГЕНЕТИЧКИ ИНЖЕЊЕРИНГ </a:t>
            </a:r>
            <a:br>
              <a:rPr sz="5000"/>
            </a:br>
            <a:r>
              <a:rPr b="1" lang="sr-CS" sz="4000" spc="-1" strike="noStrike">
                <a:solidFill>
                  <a:srgbClr val="dbf5f9"/>
                </a:solidFill>
                <a:latin typeface="Arial"/>
              </a:rPr>
              <a:t>– технологија рекомбинанте ДНК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Ћелије за пропагирањ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рДН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irc_mi" descr="https://online.science.psu.edu/sites/default/files/bisc002/bisc002_genless8_clip_image007.jpg">
            <a:hlinkClick r:id="rId1"/>
          </p:cNvPr>
          <p:cNvPicPr/>
          <p:nvPr/>
        </p:nvPicPr>
        <p:blipFill>
          <a:blip r:embed="rId2"/>
          <a:srcRect l="1536" t="4757" r="1632" b="25140"/>
          <a:stretch/>
        </p:blipFill>
        <p:spPr>
          <a:xfrm>
            <a:off x="1619280" y="2459160"/>
            <a:ext cx="5545080" cy="35622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50920" y="1341360"/>
            <a:ext cx="828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јчешће су то бактерије или еукариотске ћелије (квас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и и ћелије анималног и хуманог порек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50920" y="148428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лонирањ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змножавањем 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ножава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клонира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https://upload.wikimedia.org/wikibooks/en/9/95/DNAclon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549360"/>
            <a:ext cx="5003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5.Геномска библиотека </a:t>
            </a:r>
            <a:br>
              <a:rPr sz="32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екција рекомбинованих фрагмената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3" name="Picture 5" descr="http://lh5.ggpht.com/-M7FYQcLJlms/UoWHRQs6WtI/AAAAAAAACcQ/HSZq7801N8E/Construction%252520of%252520genomic%252520library%25255B40%25255D.png?imgmax=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7360"/>
            <a:ext cx="6697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Генск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пробе/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ДНК пробе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/сон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штачке секвенце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омологе циљаном гену, обележене су радиоактивно или хемиј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https://upload.wikimedia.org/wikipedia/commons/3/3f/SCREENING_LIBRARY_CHEM114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89000"/>
            <a:ext cx="7608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ена технологије рДНК у медицин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619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изводња проте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5680" y="259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. Производња протеи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нива се на универзалности генетичког кода у живом свету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јени протеини су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ољег квалит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изводе се у великим количинама за кратко вре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фтинији 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ају велики степен чист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 да буду побољшани разним модификација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. хромон раста, инсул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5680" y="259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изводња инсулина 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у Е.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data"/>
          <p:cNvPicPr/>
          <p:nvPr/>
        </p:nvPicPr>
        <p:blipFill>
          <a:blip r:embed="rId1"/>
          <a:srcRect l="0" t="0" r="0" b="10238"/>
          <a:stretch/>
        </p:blipFill>
        <p:spPr>
          <a:xfrm>
            <a:off x="1523880" y="1447920"/>
            <a:ext cx="6197760" cy="4800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1686600" y="1523880"/>
            <a:ext cx="279756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рансвер гена за 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6028200" y="1447920"/>
            <a:ext cx="184032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екомбинова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лазм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10640" y="3657600"/>
            <a:ext cx="29970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ирање гена за 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521800" y="4876920"/>
            <a:ext cx="10494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5265000" y="4724280"/>
            <a:ext cx="10494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2. Дијагностика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за детекцију многих патогена, генских бол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у циљу добијања довољних количина ДНК молекула за спровођење анали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In situ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хибрид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ба (сонда) може да се користи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проба 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цео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проба за део 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проба за цео хром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. проба за део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теломере, центроме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Southern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блот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дентификацији специфичних сегмената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имењује се у дијагностиковању бројних бол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Рестрикционо мапира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њ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ngerprinting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и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FL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случају делеције или инсерције нуклеотида, као и код супституције нуклеотида долази до померања рестрикционог места, што ће се манифестовати у измењеној дужини рестрикционог фрагмен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. Генска терапиј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ци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замена оштећеног и недостајућег гена здравим ге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усло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таљно познавање функције и експресије гена који се уводи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how-gene-therapy-works"/>
          <p:cNvPicPr/>
          <p:nvPr/>
        </p:nvPicPr>
        <p:blipFill>
          <a:blip r:embed="rId1"/>
          <a:stretch/>
        </p:blipFill>
        <p:spPr>
          <a:xfrm>
            <a:off x="3995640" y="1628640"/>
            <a:ext cx="49374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етички инжењерин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технологија рекомб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 Д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обухвата методе вештачког образовања нових комбинација наследног материјала.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нетички инжењеринг доживљава 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спанз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кри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зим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рестрикци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ендонуклеа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лони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ијање већег броја идентичних ко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лон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уп генетич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дентичних гена, ћелија, јед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родни клонови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нозиготни близанци, диференцијација крвних ћелија, бесполно размножавање једноћелијских организама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619280" y="333360"/>
            <a:ext cx="59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енетички инжењер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4000" y="1125000"/>
            <a:ext cx="79945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ехнички пробл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нсфер ген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ши се вирусима, липозом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би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љ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ћел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приступачније су ћелије коштане сржи и фибробласти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дукција одговарајуће експрес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90936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енска терапија се може укључити код пацијената оболелих од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лих од хемофил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ипног мијел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IDS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рцин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ућ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слови да се примени генска терапиј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ентификован мутиран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окарактерисана високим морталите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 алтернативне терап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е за трансвер гена развиј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ена су испитивања на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2. РЕПРОДУКТИВНО КЛОНИРАЊ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у циљу стварања животиње која има исту молекулску структуру као животиња дон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а клонирана животиња је овц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котс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97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99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ониране су бројне врсте животи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оступку клонирања преноси се генетички материјал  из нуклеуса телесне ћелије донора у јајну ћелију, а новостворена ћелија се третира и иницира њена део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дговарајућем стадијуму ембриогенезе  клон се ставља у утерус сурогат мај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3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репродуктивног клонирањ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53" name="Picture 5" descr="File:Cloning diagram english.svg">
            <a:hlinkClick r:id="rId1"/>
          </p:cNvPr>
          <p:cNvPicPr/>
          <p:nvPr/>
        </p:nvPicPr>
        <p:blipFill>
          <a:blip r:embed="rId2"/>
          <a:srcRect l="4576" t="0" r="12298" b="27077"/>
          <a:stretch/>
        </p:blipFill>
        <p:spPr>
          <a:xfrm>
            <a:off x="324000" y="1628640"/>
            <a:ext cx="8305560" cy="4791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684360" y="1989000"/>
            <a:ext cx="4248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елесна ћелија чији се нуклеус в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47920" y="4941720"/>
            <a:ext cx="1412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Јајна ће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647520" y="2421000"/>
            <a:ext cx="4691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уклеус телесне ћелије донора се ставља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јајну ћел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1763640" y="5300640"/>
            <a:ext cx="281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уклеус се одстрању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882840" y="4149720"/>
            <a:ext cx="67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300720" y="5589720"/>
            <a:ext cx="2214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 се ставља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терус сурогат мај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755640" y="5805360"/>
            <a:ext cx="331164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07920"/>
            <a:ext cx="2806560" cy="4300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mage result for cloned animals im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58920"/>
            <a:ext cx="4262400" cy="281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Image result for cloned animals imag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3174840"/>
            <a:ext cx="4392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3. Терапеутско клонирањ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360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еутско клонирање је вантелесно стварање ембриона у сврху 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 је производња ембрионалних стем (матичних) ћел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м ћелије се екстрахују из ембриона на стадујуму бластоци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therapeutic_and_reproductive"/>
          <p:cNvPicPr/>
          <p:nvPr/>
        </p:nvPicPr>
        <p:blipFill>
          <a:blip r:embed="rId1"/>
          <a:srcRect l="0" t="20804" r="0" b="1462"/>
          <a:stretch/>
        </p:blipFill>
        <p:spPr>
          <a:xfrm>
            <a:off x="4354560" y="981000"/>
            <a:ext cx="4178160" cy="540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9"/>
          <p:cNvSpPr/>
          <p:nvPr/>
        </p:nvSpPr>
        <p:spPr>
          <a:xfrm>
            <a:off x="4284720" y="5661000"/>
            <a:ext cx="18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рапеутско клонир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7236000" y="3573360"/>
            <a:ext cx="14443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тављ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ластоци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 утерус мај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Методе у клонирању ДН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ипови клонирањ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антна ДНК (клонирање ге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родуктивно клонир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еутско клонир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40273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1. Хибридизација нуклеинских кисе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 се између познате и циљане секвенце ДН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о хибридизације је визуализовано светлећим сигн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metaphase"/>
          <p:cNvPicPr/>
          <p:nvPr/>
        </p:nvPicPr>
        <p:blipFill>
          <a:blip r:embed="rId1"/>
          <a:stretch/>
        </p:blipFill>
        <p:spPr>
          <a:xfrm>
            <a:off x="4724280" y="0"/>
            <a:ext cx="3857760" cy="345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interphase"/>
          <p:cNvPicPr/>
          <p:nvPr/>
        </p:nvPicPr>
        <p:blipFill>
          <a:blip r:embed="rId2"/>
          <a:stretch/>
        </p:blipFill>
        <p:spPr>
          <a:xfrm>
            <a:off x="4724280" y="3494160"/>
            <a:ext cx="3808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НК пробе 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4" name="Picture 5" descr="3Uebersicht_Proben"/>
          <p:cNvPicPr/>
          <p:nvPr/>
        </p:nvPicPr>
        <p:blipFill>
          <a:blip r:embed="rId1"/>
          <a:stretch/>
        </p:blipFill>
        <p:spPr>
          <a:xfrm>
            <a:off x="1908000" y="1484280"/>
            <a:ext cx="5210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FISH-Fig11"/>
          <p:cNvPicPr/>
          <p:nvPr/>
        </p:nvPicPr>
        <p:blipFill>
          <a:blip r:embed="rId1"/>
          <a:stretch/>
        </p:blipFill>
        <p:spPr>
          <a:xfrm>
            <a:off x="395280" y="549360"/>
            <a:ext cx="4560840" cy="596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Telomere FISH"/>
          <p:cNvPicPr/>
          <p:nvPr/>
        </p:nvPicPr>
        <p:blipFill>
          <a:blip r:embed="rId2"/>
          <a:stretch/>
        </p:blipFill>
        <p:spPr>
          <a:xfrm>
            <a:off x="5148360" y="333360"/>
            <a:ext cx="3354120" cy="3300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Whole Chromosome Paint (FISH)"/>
          <p:cNvPicPr/>
          <p:nvPr/>
        </p:nvPicPr>
        <p:blipFill>
          <a:blip r:embed="rId3"/>
          <a:stretch/>
        </p:blipFill>
        <p:spPr>
          <a:xfrm>
            <a:off x="4838760" y="3468600"/>
            <a:ext cx="43052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Електрофореза на гел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раздвајање молекула из смесе на основу њихове брзине кретања у електричном пољ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 се користи агарозни г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електрофорезе бендови ДНК постају видљиви на УВ свет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ктрофореза на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агарозном гел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хоризонтална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1" name="Picture 6" descr="http://media-2.web.britannica.com/eb-media/72/47672-004-4E16B61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ктрофореза на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олиакриламидном гел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вертикална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3" name="Picture 2" descr="http://www.bio-rad.com/webroot/web/images/lsr/solutions/technologies/protein_electrophoresis_blotting_and_imaging/protein_electrophoresis/technology_detail/pet11_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7274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фореграм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5" name="Picture 6" descr="http://midsci.org/images/lp/agarose.gif"/>
          <p:cNvPicPr/>
          <p:nvPr/>
        </p:nvPicPr>
        <p:blipFill>
          <a:blip r:embed="rId1"/>
          <a:stretch/>
        </p:blipFill>
        <p:spPr>
          <a:xfrm>
            <a:off x="1763640" y="1125360"/>
            <a:ext cx="5761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3. Блотинг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бендова са агарозног гела на најлонску мембр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е блотинг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uth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ДНК фрагм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rth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иР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est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uthern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лот анализ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9" name="Picture 5" descr="http://site.motifolio.com/images/Southern-blot-6111111.png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outhern 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блот анали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highered.mcgraw-hill.com/sites/0072556781/student_view0/chapter14/animation_quiz_5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1.  Рекомбинантна ДНК (</a:t>
            </a:r>
            <a:r>
              <a:rPr b="1" i="1" lang="sr-CS" sz="4400" spc="-1" strike="noStrike">
                <a:solidFill>
                  <a:srgbClr val="ff0000"/>
                </a:solidFill>
                <a:latin typeface="Arial"/>
              </a:rPr>
              <a:t>клонирање гена</a:t>
            </a: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редства и метод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 клонирању г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Ауторадиограф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зуелизација хибридизације која је радиоактивно обелезена на радиографском фил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6" descr="http://d1o6q7s4etob7k.cloudfront.net/content/femsle/161/1/7/F1.medium.gif"/>
          <p:cNvPicPr/>
          <p:nvPr/>
        </p:nvPicPr>
        <p:blipFill>
          <a:blip r:embed="rId1"/>
          <a:stretch/>
        </p:blipFill>
        <p:spPr>
          <a:xfrm>
            <a:off x="900000" y="2421000"/>
            <a:ext cx="597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CR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ланчана реакција полимер</a:t>
            </a:r>
            <a:r>
              <a:rPr b="1" lang="sr-Latn-R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0000ff"/>
                </a:solidFill>
                <a:latin typeface="Arial"/>
              </a:rPr>
              <a:t>зе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родукцију велике количине ДНК из мале количине узорка (трагови крви, длака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30-4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кл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матрица за синтезу ДНК може да послужи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РН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 учешће реверзне транскрипт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RТ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меризација се врши на 65-75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моћу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Таq полимеразе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ребно 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и прајм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лиме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уклеот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орак 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003640" y="333360"/>
            <a:ext cx="3456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зе у PCR-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Резултат слика за PCR images"/>
          <p:cNvPicPr/>
          <p:nvPr/>
        </p:nvPicPr>
        <p:blipFill>
          <a:blip r:embed="rId1"/>
          <a:stretch/>
        </p:blipFill>
        <p:spPr>
          <a:xfrm>
            <a:off x="395280" y="3860640"/>
            <a:ext cx="3097080" cy="27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Object 10"/>
          <p:cNvGraphicFramePr/>
          <p:nvPr/>
        </p:nvGraphicFramePr>
        <p:xfrm>
          <a:off x="4440240" y="836640"/>
          <a:ext cx="4452840" cy="60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0240" y="836640"/>
                    <a:ext cx="445284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http://www.paulvanouse.com/PCR-proces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3276720" y="476280"/>
            <a:ext cx="2663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R амплифик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http://biocompute.bmi.ac.cn/MPprimer/img/image009.jpg"/>
          <p:cNvPicPr/>
          <p:nvPr/>
        </p:nvPicPr>
        <p:blipFill>
          <a:blip r:embed="rId1"/>
          <a:stretch/>
        </p:blipFill>
        <p:spPr>
          <a:xfrm>
            <a:off x="324000" y="1989000"/>
            <a:ext cx="8534160" cy="42674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826920" y="692280"/>
            <a:ext cx="720108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R резул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maxanim.com/genetics/PCR/PCR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редства у клонирању ген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889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стрикци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ндонуклеа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з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териј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донукле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рестрикциона мес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рестрикциони фраг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иве добијају пр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ктеријама из којих 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лов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http://www.biochem.arizona.edu/classes/bioc471/pages/Lecture2/AMG1.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341360"/>
            <a:ext cx="4392360" cy="518328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https://patentimages.storage.googleapis.com/WO2001007651A2/imgf000011_000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8459640" cy="483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324000" y="40464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Примери рестрикционих ензима и њихових рестикционих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2.  Лигаз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989000"/>
            <a:ext cx="324144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газа спаја (повезује) рестрикционе фрагменте  при чему настаје  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рекомбинантна ДН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http://cyhshonorsbio.wikispaces.com/file/view/mod1_3_dnaligatn.jpg/229673448/350x237/mod1_3_dnaliga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628640"/>
            <a:ext cx="5219640" cy="4608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5364000" y="5516640"/>
            <a:ext cx="2232360" cy="50472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комбинантна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5580000" y="2205000"/>
            <a:ext cx="1800360" cy="64764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стрикциони енз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580000" y="3860640"/>
            <a:ext cx="2160720" cy="50508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НК фрагменте спаја ли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15"/>
          <p:cNvSpPr/>
          <p:nvPr/>
        </p:nvSpPr>
        <p:spPr>
          <a:xfrm flipH="1">
            <a:off x="6300720" y="4437000"/>
            <a:ext cx="216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417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ктори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зм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офаг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и 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м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А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лазм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 налазе 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им ћел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гене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зистент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био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2920" y="227664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Косми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вештачки вектор конструисан од делова бактериофага и плазм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YА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вештачки хромозом квасца, може да унесе више ДНК од осталих век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sr-Latn-CS" sz="3300" spc="-1" strike="noStrike">
                <a:solidFill>
                  <a:srgbClr val="0000ff"/>
                </a:solidFill>
                <a:latin typeface="Arial"/>
              </a:rPr>
              <a:t>Вектори</a:t>
            </a:r>
            <a:br>
              <a:rPr sz="3300"/>
            </a:br>
            <a:br>
              <a:rPr sz="9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ктори с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редства за уношење фрагм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тране ДНК у ћел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лазмид – као векто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5" name="Picture 5" descr="http://urei.bio.uci.edu/~hudel/bs99a/lecture28/plasmid.gif"/>
          <p:cNvPicPr/>
          <p:nvPr/>
        </p:nvPicPr>
        <p:blipFill>
          <a:blip r:embed="rId1"/>
          <a:srcRect l="2646" t="6183" r="3061" b="8792"/>
          <a:stretch/>
        </p:blipFill>
        <p:spPr>
          <a:xfrm>
            <a:off x="2050920" y="1341360"/>
            <a:ext cx="4681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11:22Z</dcterms:modified>
  <cp:revision>176</cp:revision>
  <dc:subject/>
  <dc:title>MUTACIJE GENA</dc:title>
</cp:coreProperties>
</file>